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0CC3-F895-4620-85EF-2FD523372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2742-247C-4C23-8507-E449EF9B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D368-0B71-491E-8B21-0CFF54B04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E2FA-7F3A-43C3-BA95-2A0D232EE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E800-80FE-4E33-BB9F-4843B974C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6D37-6557-4A4A-BEC2-2C87D6C2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E7C9-E873-4B95-9920-3AC641F2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9269-12EB-47A2-9D4C-0109E5CB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CD7A-CD43-4E21-91D7-5596D0EE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12962-0B91-4BA2-B659-2A4E907E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7B49-7CED-499E-A10F-A9069830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70A2-1D17-4988-9A6B-F819221C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D3DD0-4523-44CA-ACC2-DA5F4A05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C8FA-2FD3-4106-A9E7-38241EC9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38FF-A60F-4CF6-BF71-D0460A55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C69C-16A3-4054-BD4F-0B41AF275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5D00-AEF4-401A-82CD-EE9A8072E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069C-1536-4EC4-A372-21F0A81C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ED0B-70B9-4144-95F7-64CB5F0B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5754-90C9-4DEE-B98A-93211776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0886-A890-47FC-9012-02C0CF61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89DD-9E04-4DE6-8FA2-C08B1C28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F03B-A4CF-402A-8D4D-8E3A0831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347D-F1E1-4BB9-A2E8-82E97888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7FCB-2D85-4FCF-9CBB-A420C113433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0C2D-F9C4-476A-86D6-D6CC2C57659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Till There Was No Remedy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(The Divided Kingdom)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Quarter 6, Lesson 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g.41-4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 Kings 1:2 – 2:22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92088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362320" y="22860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Where Were Are To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920" y="2971440"/>
            <a:ext cx="0" cy="1219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2057400"/>
            <a:ext cx="6094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6553080"/>
            <a:ext cx="12193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haziah’s Accid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Final Days of Elijah’s Ministry – 2 Kings 1:1 -2: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ijah and Ahaziah -1:1-1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Fall 1:1-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Foretelling – 1:3-4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Fury – 1:5-9,1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Fire – 1:10,1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Favor – 1:13-15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Fulfillment – 1:16-18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ijah Is Taken Up To Heave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ijah and Elisha – 2:1-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ir Final Journey Togeth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Route – 2:1-6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River – 2:7-8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Request – 2:9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Requirement – 2:1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Removal – 2:1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1425600"/>
            <a:ext cx="9144000" cy="4297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505320" y="3276720"/>
            <a:ext cx="914400" cy="5331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43400" y="3505320"/>
            <a:ext cx="1066680" cy="5331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029200" y="3886200"/>
            <a:ext cx="1143000" cy="5335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30492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our Places To Remember: Gilgal, Bethel, Jericho, and the Jordan Riv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562720" y="3124080"/>
            <a:ext cx="304560" cy="228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First Days of Elisha’s Ministr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Parts The Jordan – 2:12-1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Pacifies Some Prophets – 15-1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Purifies Some Water – 19-2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867280" y="609480"/>
            <a:ext cx="30481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laces of Note In Our Text – 2 Kings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ILGAL – v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ETHEL – v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ERICHO –v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E JORDAN RIVER –v.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3504960" y="1447920"/>
            <a:ext cx="2438280" cy="2209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047760" y="1828800"/>
            <a:ext cx="2895480" cy="1752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276720" y="2362320"/>
            <a:ext cx="2590560" cy="1295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3352320" y="2895480"/>
            <a:ext cx="2514600" cy="762120"/>
          </a:xfrm>
          <a:prstGeom prst="line">
            <a:avLst/>
          </a:prstGeom>
          <a:ln w="5724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3733920"/>
            <a:ext cx="320040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ethel – House of G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ericho – Vict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ordan – New Begin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erhaps each place was a great reminder as Elijah passed the mantle on to Elish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1T16:59:46Z</dcterms:created>
  <dc:creator>Terry W. Benton</dc:creator>
  <dc:description/>
  <dc:language>en-US</dc:language>
  <cp:lastModifiedBy>Frank D Vines</cp:lastModifiedBy>
  <dcterms:modified xsi:type="dcterms:W3CDTF">2005-08-03T14:07:19Z</dcterms:modified>
  <cp:revision>2</cp:revision>
  <dc:subject/>
  <dc:title>Till There Was No Remedy (The Divided Kingdom)</dc:title>
</cp:coreProperties>
</file>